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715A-682E-4D83-8AB9-D440DA151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5DFC-49FA-4BC8-A6D3-417BD7B86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3920-2358-472A-8A94-D673F8C3A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68F7-9872-42AD-827A-CAC9195E3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99E3-94B2-4506-917F-26F0CD099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D9E2-0AC9-4C86-855A-50741CD5D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75F4-5DD8-492E-AF63-5219B9007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D78F-432C-4DF4-919F-A81CEBA85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DCE2-68E8-40A7-8256-5F47F7781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657E-E536-419C-A936-F3AD9650F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1FDD-1363-4E50-A463-8821D9CFF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14F1-6363-4B71-B72E-0967872B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06CDC-91E4-4DFD-BE8D-A925144D3B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INIÓN PÚBL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una vía para acceder a la verdad sobre algún te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A QUE LA OPINIÓN PÚBLICA SE DE, SE NECESIT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cambio de da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m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álogo entre dos o más perso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INTERVENCIÓN DE LOS MEDIOS EN LA O.P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os medios de comunicación, ya sean visuales o audiovisuales, influyen en el individuo diciéndoles no en que pensar, sino sobre en que pensar, esto es conocido como la teoría “agenda setting”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O.P. siempre será manipulable, dependiendo de la fuerza y credibilidad que el receptor tenga con el emisor, también de las características que el mismo mensaje tenga, como por ejemplo la calidad de los argumentos, la claridad y organización en la exposición, el énfasis del mensaje, imágene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0T17:27:36Z</dcterms:created>
  <dc:creator>MAD</dc:creator>
  <dc:description/>
  <dc:language>en-US</dc:language>
  <cp:lastModifiedBy>MAD</cp:lastModifiedBy>
  <dcterms:modified xsi:type="dcterms:W3CDTF">2009-09-20T18:17:54Z</dcterms:modified>
  <cp:revision>2</cp:revision>
  <dc:subject/>
  <dc:title>OPINIÓN PÚBLICA</dc:title>
</cp:coreProperties>
</file>